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4D38-A8FB-466E-8FC1-68D04446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FBFF-71DD-435D-8B57-2CAED70B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A83E-64B9-4542-9DF9-B7DB66325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166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04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248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166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04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A3D2-1C19-46EB-A983-3F305365A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355A-7CA8-40EE-853F-984F29D7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0047-5834-4C33-B4A2-08D97028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ADD3-B8E7-469E-B501-D597101D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B882-65C1-4901-B9F3-C7F1ECB5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2480" y="893880"/>
            <a:ext cx="660744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ED89-2981-4DB4-9BAE-25BD22F5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F016-AE06-4DF7-9B92-3B680D4B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1989-7D49-4967-8E38-2C7EDDCE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FD29-77F3-4C83-BEC9-2E8E22F0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09120" y="9143640"/>
            <a:ext cx="1600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666880" y="9143640"/>
            <a:ext cx="2438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5562360" y="9143640"/>
            <a:ext cx="1600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F016-E205-431C-BBB7-5035F4825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90520" y="318960"/>
          <a:ext cx="7010280" cy="934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318960"/>
                    <a:ext cx="7010280" cy="934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44960" y="762120"/>
            <a:ext cx="4789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Maintain Commitment and Obligation Records/Review Detail Expenditure Repor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8760" y="1407960"/>
            <a:ext cx="664920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ITU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You are the budget clerk assigned to the Headquarters, 3d Brigade Armor, 77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antry, 54th Infantry Division (Mechanized), Fort Stewart, GA 31314.  You are responsible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the obligation and commitment records; performing the weekly and joint Disburs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/Activity reconciliation, and review of unliquidated obligations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 are responsible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C A142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0000" y="2703600"/>
            <a:ext cx="135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5400" y="3160800"/>
            <a:ext cx="710028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ART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Post the documents from pages 5-26 to your FCR. Use date of request as Today’s d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Review/verify and post the obligation data from the DOR 10 01 to 10 1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Answer questions 1-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ART 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Post the documents from pages 30-49 to your FCR.  Today’s date is 20 Oct **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Review/verify and post the obligation data from the DOR 10 20 to 10 2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Review the NSFOP listing and make any adjustments as necessary to y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 Control Rec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Answer questions 8-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8600" y="9596520"/>
            <a:ext cx="648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I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07T13:59:44Z</dcterms:created>
  <dc:creator>SFL</dc:creator>
  <dc:description/>
  <dc:language>en-US</dc:language>
  <cp:lastModifiedBy>Administrator</cp:lastModifiedBy>
  <cp:lastPrinted>2001-10-02T20:32:23Z</cp:lastPrinted>
  <dcterms:modified xsi:type="dcterms:W3CDTF">2005-03-23T21:27:20Z</dcterms:modified>
  <cp:revision>18</cp:revision>
  <dc:subject/>
  <dc:title>No Slide Title</dc:title>
</cp:coreProperties>
</file>